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05D-7E44-4B82-BA31-28D1C6E1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1B3-04E7-4AA9-8EAE-5CD14795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F64-8D52-4396-AF8F-CA2509CA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96F-3CA8-4FEB-9DDA-D219EE92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F044-A822-42CB-A70E-4A476698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7136-F367-49D1-BE82-CB1D87B8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8C02-D14F-4730-A3A2-B0026497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F308-FFEF-42CA-A655-E4253DAA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0A1E-1633-4EB3-BA02-F50F0449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2A9F-9D75-4232-AA1B-7DA608D2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282F-C0F0-4ECF-B01F-C32CDE7F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09A4-6788-4AF6-BB35-C50BAECF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6DCF-DA0E-4623-A854-0F959A62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41B5-6E52-49AD-8A4D-0E23A94C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DCB1-3249-4A2A-9BDB-72498E1C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2E99-6380-46E6-B00A-4E1224B7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525A-F583-41AD-BC98-78548111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E13-3B86-4689-91CF-4FBB768C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A66-EEA8-45BA-BE12-2106CCD5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2D5-3CFF-487F-8268-F55DF33C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E4E-A2C4-4A16-81F0-E955CBEA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D11-E924-49D4-A216-2D098B6E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165-771E-4336-B9F4-2730E1A3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F62-44F0-47BD-81A4-327109F0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D42F-C450-4851-A140-DAF1D285D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1336-F015-4D26-9C46-EFBF67AA7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057400" y="457200"/>
            <a:ext cx="5181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ffffcc">
                      <a:alpha val="80000"/>
                    </a:srgbClr>
                  </a:outerShdw>
                </a:effectLst>
                <a:latin typeface="Times New Roman"/>
              </a:rPr>
              <a:t>21st Century Skill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ffffcc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 Content Curriculum Skill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stery of Core Subjec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aware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nancial, economic, business and entrepreneurial lite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ivic lite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 lite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 Learning and Innovation Skil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ivity and Innovation Skil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itical Thinking and Problem Solving Skil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unication and Collaboration Skil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 Information Media and Technology Skill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Lite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a Lite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CT (Information, Communications &amp; Technology) Lite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. Life and Career Skil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exibility &amp; Adaptabilit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itiative &amp; Self-Dir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cial &amp; Cross-Cultural Skill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ductivity &amp; Accountabi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adership &amp; Responsibi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reativity and Innovat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ly existing knowledge to generate new ideas, products, or process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te original works as a means of personal or group express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 models and simulations to explore complex systems and issu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ntify trends and forecast possibil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 Communication and Collaborat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act, collaborate, and publish with peers, experts, or others employing a variety of digital environments and med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unicate information and ideas effectively to multiple audiences using a variety of media and forma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 cultural understanding and global awareness by engaging with learners of other cultu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ibute to project teams to produce original works or solve proble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 Research and Information Fl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n strategies to guide inquir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cate, organize, analyze, evaluate, synthesize, and ethically use information from a variety of sources and med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aluate and select information sources and digital tools based on the appropriateness to specific task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data and report result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76720" y="54288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ffffcc">
                      <a:alpha val="80000"/>
                    </a:srgbClr>
                  </a:outerShdw>
                </a:effectLst>
                <a:latin typeface="Times New Roman"/>
              </a:rPr>
              <a:t>NET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ffffcc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8920" y="7761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tudents ‘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. Critical Thinking, Problem Solving, and Decision Mak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ntify and define authentic problems and significant questions for investig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n and manage activities to develop a solution or complete a proje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lect and analyze data to identify solutions and/or make informed decis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 multiple processes and diverse perspectives to explore alternative solu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 Digital Citizenshi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vocate and practice safe, legal, and responsible use of information and technolog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hibit a positive attitude toward using technology that supports collaborators to be a digital citizen learning, and productivi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e personal responsibility for lifelong learn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hibit leadership for digital citizenshi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. Technology Operations and Concep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stand and use technology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lect and use applications effectively and productive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oubleshoot systems and applica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fer current knowledge to learning of new technolog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00400" y="61920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ffffcc">
                      <a:alpha val="80000"/>
                    </a:srgbClr>
                  </a:outerShdw>
                </a:effectLst>
                <a:latin typeface="Times New Roman"/>
              </a:rPr>
              <a:t>NET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ffffcc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2600" y="85248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tudents ‘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9:54:13Z</dcterms:created>
  <dc:creator>Administrator</dc:creator>
  <dc:description/>
  <dc:language>en-US</dc:language>
  <cp:lastModifiedBy>Administrator</cp:lastModifiedBy>
  <dcterms:modified xsi:type="dcterms:W3CDTF">2008-07-29T01:12:03Z</dcterms:modified>
  <cp:revision>6</cp:revision>
  <dc:subject/>
  <dc:title>Slide 1</dc:title>
</cp:coreProperties>
</file>